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9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067-253B-4F58-9F12-5DECDD4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C9B-FCC4-4119-8843-833B4F1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C8D-7AF5-4DE4-ACDA-9648BE1D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509-D8D8-4F22-BD99-9D616997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158-1A01-4773-8E84-628084E1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D63-6E8A-47E4-A021-932EC830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3D5-939C-4156-8346-2F429551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218-203B-4E0E-A153-6E5F7F6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4DA-B911-4E42-AB6B-5B18A338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FF9-47F4-418A-9DFC-03941000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C5A-926C-4140-B740-3D2822E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7A-2575-4154-9D27-19503228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6CB-C3B7-4E79-A9CC-D37ACD3A0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" Target="slide13.xml"/><Relationship Id="rId6" Type="http://schemas.openxmlformats.org/officeDocument/2006/relationships/image" Target="../media/image17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slide" Target="slide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Goudy Stout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805644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лекция для  5 - 7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ыполнила: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ригорьева Е.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ОУ «СОШ № 82» г.Сар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84360" y="836640"/>
            <a:ext cx="806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 ПИСЬМЕН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3068280"/>
            <a:ext cx="83008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35164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WordArt 10"/>
          <p:cNvSpPr txBox="1"/>
          <p:nvPr/>
        </p:nvSpPr>
        <p:spPr>
          <a:xfrm>
            <a:off x="684360" y="404640"/>
            <a:ext cx="799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УССКАЯ  АЗБУ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12">
            <a:hlinkClick r:id="rId3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русском государстве письменность появила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 веке на основе византийской системы письма. Авторами славянского шрифта были монахи Кирилл и Меф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вянская письменность имела не одну, а две азбуки: кириллицу и глагол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Слайд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324000" y="333360"/>
            <a:ext cx="828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4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ЯВЛЕНИЕ ПИСЬМЕННОСТИ НА РУС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12" descr="99">
            <a:hlinkClick r:id="rId3" action="ppaction://hlinksldjump"/>
          </p:cNvPr>
          <p:cNvPicPr/>
          <p:nvPr/>
        </p:nvPicPr>
        <p:blipFill>
          <a:blip r:embed="rId4"/>
          <a:srcRect l="4429" t="15133" r="1969" b="33219"/>
          <a:stretch/>
        </p:blipFill>
        <p:spPr>
          <a:xfrm>
            <a:off x="6156360" y="1600200"/>
            <a:ext cx="2448000" cy="23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Обрезать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51640" y="4221000"/>
            <a:ext cx="3241440" cy="2376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6">
            <a:hlinkClick r:id="rId7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split dir="in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99"/>
          <p:cNvPicPr/>
          <p:nvPr/>
        </p:nvPicPr>
        <p:blipFill>
          <a:blip r:embed="rId2"/>
          <a:srcRect l="4429" t="15133" r="1969" b="33219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глаголица происходит от славянского слов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глаголъ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широко употреблялась в Моравии и Болгарии, но изредка в  Древне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кириллица полностью совпадают по составу, порядку и значению букв, но резко отличаются по форме бук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826920" y="620640"/>
            <a:ext cx="676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5c2e">
                      <a:alpha val="0"/>
                    </a:srgbClr>
                  </a:solidFill>
                  <a:miter/>
                </a:ln>
                <a:solidFill>
                  <a:srgbClr val="0a4a0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ЛАГОЛИЦА</a:t>
            </a:r>
            <a:endParaRPr b="0" lang="en-US" sz="1800" spc="1" strike="noStrike">
              <a:ln w="9360">
                <a:solidFill>
                  <a:srgbClr val="005c2e">
                    <a:alpha val="0"/>
                  </a:srgbClr>
                </a:solidFill>
                <a:miter/>
              </a:ln>
              <a:solidFill>
                <a:srgbClr val="0a4a0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97" descr="ять"/>
          <p:cNvPicPr/>
          <p:nvPr/>
        </p:nvPicPr>
        <p:blipFill>
          <a:blip r:embed="rId2"/>
          <a:stretch/>
        </p:blipFill>
        <p:spPr>
          <a:xfrm>
            <a:off x="155520" y="46080"/>
            <a:ext cx="14292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8" descr="Людие"/>
          <p:cNvPicPr/>
          <p:nvPr/>
        </p:nvPicPr>
        <p:blipFill>
          <a:blip r:embed="rId3"/>
          <a:stretch/>
        </p:blipFill>
        <p:spPr>
          <a:xfrm>
            <a:off x="5651640" y="1773360"/>
            <a:ext cx="3282840" cy="4752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6">
            <a:hlinkClick r:id="rId4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5" descr=""/>
          <p:cNvPicPr/>
          <p:nvPr/>
        </p:nvPicPr>
        <p:blipFill>
          <a:blip r:embed="rId2"/>
          <a:stretch/>
        </p:blipFill>
        <p:spPr>
          <a:xfrm>
            <a:off x="2066760" y="-189000"/>
            <a:ext cx="5456520" cy="1335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рисунок9.jpg"/>
          <p:cNvPicPr/>
          <p:nvPr/>
        </p:nvPicPr>
        <p:blipFill>
          <a:blip r:embed="rId3"/>
          <a:stretch/>
        </p:blipFill>
        <p:spPr>
          <a:xfrm>
            <a:off x="214200" y="1071720"/>
            <a:ext cx="8715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554508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ириллица» была названа по имени одного из двух брат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у было положено греческое письмо и дополнено новыми знаками, отражающими специфические славянские звуки. Буквы азбуки употреблялись и цифровом зна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95280" y="4797360"/>
            <a:ext cx="849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 кириллицы постепенно на протяжении веков изменялась: уменьшалось количество букв, упрощалось их начертание (устав, вязь, полуустав, скоропись)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971640" y="260280"/>
            <a:ext cx="74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КИРИЛЛИЦ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Picture 12" descr="Azbuka-4a"/>
          <p:cNvPicPr/>
          <p:nvPr/>
        </p:nvPicPr>
        <p:blipFill>
          <a:blip r:embed="rId2"/>
          <a:stretch/>
        </p:blipFill>
        <p:spPr>
          <a:xfrm>
            <a:off x="6443640" y="1268280"/>
            <a:ext cx="244800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SP5"/>
          <p:cNvPicPr/>
          <p:nvPr/>
        </p:nvPicPr>
        <p:blipFill>
          <a:blip r:embed="rId3"/>
          <a:stretch/>
        </p:blipFill>
        <p:spPr>
          <a:xfrm>
            <a:off x="250920" y="3573360"/>
            <a:ext cx="5833800" cy="1295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5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09" name="Прямоугольник 8" descr=""/>
          <p:cNvPicPr/>
          <p:nvPr/>
        </p:nvPicPr>
        <p:blipFill>
          <a:blip r:embed="rId4"/>
          <a:stretch/>
        </p:blipFill>
        <p:spPr>
          <a:xfrm>
            <a:off x="3608280" y="3029040"/>
            <a:ext cx="2073240" cy="59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23"/>
          <p:cNvPicPr/>
          <p:nvPr/>
        </p:nvPicPr>
        <p:blipFill>
          <a:blip r:embed="rId2"/>
          <a:srcRect l="0" t="4598" r="0" b="8000"/>
          <a:stretch/>
        </p:blipFill>
        <p:spPr>
          <a:xfrm>
            <a:off x="0" y="1101600"/>
            <a:ext cx="9144000" cy="57564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2" descr=""/>
          <p:cNvPicPr/>
          <p:nvPr/>
        </p:nvPicPr>
        <p:blipFill>
          <a:blip r:embed="rId3"/>
          <a:stretch/>
        </p:blipFill>
        <p:spPr>
          <a:xfrm>
            <a:off x="463680" y="-103320"/>
            <a:ext cx="8242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т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одятся арабские цифры для числового обозначения вместо обозначения их буквами.      Слайд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м событием на Руси было введение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708 году гражданского шрифта и проведение реформы орфографии: ряд букв  был изъят из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формы Петра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12" descr="SP1"/>
          <p:cNvPicPr/>
          <p:nvPr/>
        </p:nvPicPr>
        <p:blipFill>
          <a:blip r:embed="rId2"/>
          <a:stretch/>
        </p:blipFill>
        <p:spPr>
          <a:xfrm>
            <a:off x="4500720" y="3860640"/>
            <a:ext cx="43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: небо, памятник, Санкт-Петербург, Пётр 1"/>
          <p:cNvPicPr/>
          <p:nvPr/>
        </p:nvPicPr>
        <p:blipFill>
          <a:blip r:embed="rId3"/>
          <a:srcRect l="14174" t="16132" r="12992" b="23045"/>
          <a:stretch/>
        </p:blipFill>
        <p:spPr>
          <a:xfrm>
            <a:off x="755640" y="1484280"/>
            <a:ext cx="3240000" cy="2806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6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: небо, памятник, Санкт-Петербург, Пётр 1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1917 года была проведена ещё одна значительная реформа правопис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тарого алфавита были изъяты лишние бук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ять», «фита», «ер»), «ё» стала носить факультатив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324000" y="0"/>
            <a:ext cx="85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Times New Roman"/>
              </a:rPr>
              <a:t>реформы 1917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99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2" name="Picture 7" descr="Орнамент IX в. Собрание Гагарина."/>
          <p:cNvPicPr/>
          <p:nvPr/>
        </p:nvPicPr>
        <p:blipFill>
          <a:blip r:embed="rId2"/>
          <a:stretch/>
        </p:blipFill>
        <p:spPr>
          <a:xfrm>
            <a:off x="179280" y="5084640"/>
            <a:ext cx="8785440" cy="15843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99"/>
          <p:cNvPicPr/>
          <p:nvPr/>
        </p:nvPicPr>
        <p:blipFill>
          <a:blip r:embed="rId2"/>
          <a:srcRect l="4429" t="15133" r="1969" b="33219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фавит в современном виде был введен рядом реформ. (Пе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08 -1710гг., Академия наук 1735г.,1738г. и 1758г.; Народный Комиссариат просвещения 1917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м письменности занимается грамматология, а также эпиграфика и палеограф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468360" y="40464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ое письм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5" descr="oh88"/>
          <p:cNvPicPr/>
          <p:nvPr/>
        </p:nvPicPr>
        <p:blipFill>
          <a:blip r:embed="rId4"/>
          <a:stretch/>
        </p:blipFill>
        <p:spPr>
          <a:xfrm>
            <a:off x="179280" y="5229360"/>
            <a:ext cx="8785440" cy="13968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1. В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2. Виды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а) пиктографическое письм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б) идеографическое письм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в) слоговое письм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г) буквенно-звуковое письмо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3. Русская азб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а) появление письменности на Ру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б) глагол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в) кирилл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г) реформы Пе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д) реформ 1917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е) современное пись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WordArt 7"/>
          <p:cNvGrpSpPr/>
          <p:nvPr/>
        </p:nvGrpSpPr>
        <p:grpSpPr>
          <a:xfrm>
            <a:off x="676440" y="328680"/>
            <a:ext cx="7572240" cy="658800"/>
            <a:chOff x="676440" y="328680"/>
            <a:chExt cx="7572240" cy="658800"/>
          </a:xfrm>
        </p:grpSpPr>
        <p:pic>
          <p:nvPicPr>
            <p:cNvPr id="49" name="WordArt 7" descr=""/>
            <p:cNvPicPr/>
            <p:nvPr/>
          </p:nvPicPr>
          <p:blipFill>
            <a:blip r:embed="rId16"/>
            <a:stretch/>
          </p:blipFill>
          <p:spPr>
            <a:xfrm>
              <a:off x="676440" y="328680"/>
              <a:ext cx="75722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333360"/>
              <a:ext cx="7559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держание</a:t>
              </a:r>
              <a:endParaRPr b="0" lang="en-US" sz="3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51" name="Picture 8" descr="JE_oh12_ostr"/>
          <p:cNvPicPr/>
          <p:nvPr/>
        </p:nvPicPr>
        <p:blipFill>
          <a:blip r:embed="rId17"/>
          <a:stretch/>
        </p:blipFill>
        <p:spPr>
          <a:xfrm>
            <a:off x="7020000" y="1197000"/>
            <a:ext cx="1871640" cy="35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onts9"/>
          <p:cNvPicPr/>
          <p:nvPr/>
        </p:nvPicPr>
        <p:blipFill>
          <a:blip r:embed="rId18"/>
          <a:stretch/>
        </p:blipFill>
        <p:spPr>
          <a:xfrm>
            <a:off x="0" y="3284640"/>
            <a:ext cx="2268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сьме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личайшее достижение человека. История возникновения письма уходит своими корнями в дре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ных народов – разное количество букв.  Так, например, в русском – 33, в армянском – 39, в камбоджийском -72, а в алфавите племени Отока –11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в мире около 5000 разных языков и диалектов, но не все имеют письменное закре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80000" y="1628280"/>
            <a:ext cx="30974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332000" y="620640"/>
            <a:ext cx="6912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9" descr="SP3"/>
          <p:cNvPicPr/>
          <p:nvPr/>
        </p:nvPicPr>
        <p:blipFill>
          <a:blip r:embed="rId2"/>
          <a:stretch/>
        </p:blipFill>
        <p:spPr>
          <a:xfrm>
            <a:off x="5940360" y="148428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P2"/>
          <p:cNvPicPr/>
          <p:nvPr/>
        </p:nvPicPr>
        <p:blipFill>
          <a:blip r:embed="rId3"/>
          <a:stretch/>
        </p:blipFill>
        <p:spPr>
          <a:xfrm>
            <a:off x="5580000" y="4292640"/>
            <a:ext cx="2879640" cy="22287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2">
            <a:hlinkClick r:id="rId4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ИДЫ    ПИС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овествует о четырех видах пись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а)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пиктографическом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б)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идеографичес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в)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слоговом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г)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буквенно-слоговом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3"/>
          <a:stretch/>
        </p:blipFill>
        <p:spPr>
          <a:xfrm>
            <a:off x="1547640" y="4149720"/>
            <a:ext cx="684072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imgbyid"/>
          <p:cNvPicPr/>
          <p:nvPr/>
        </p:nvPicPr>
        <p:blipFill>
          <a:blip r:embed="rId14"/>
          <a:srcRect l="4605" t="-9511" r="3837" b="14280"/>
          <a:stretch/>
        </p:blipFill>
        <p:spPr>
          <a:xfrm>
            <a:off x="4716360" y="1535040"/>
            <a:ext cx="4103640" cy="2440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8">
            <a:hlinkClick r:id="rId15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ИКТОГРАФИЧЕСКО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ИСЬ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ктограф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тин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появилось в доисторические времена. Многие рисунки, дошедшие до нас, ещё не разгад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ами современного использования пиктографии могут служить дорожные знаки для водителей и пеш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j0289010"/>
          <p:cNvPicPr/>
          <p:nvPr/>
        </p:nvPicPr>
        <p:blipFill>
          <a:blip r:embed="rId2"/>
          <a:stretch/>
        </p:blipFill>
        <p:spPr>
          <a:xfrm>
            <a:off x="5580000" y="1628640"/>
            <a:ext cx="3322800" cy="21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slavi11"/>
          <p:cNvPicPr/>
          <p:nvPr/>
        </p:nvPicPr>
        <p:blipFill>
          <a:blip r:embed="rId3"/>
          <a:stretch/>
        </p:blipFill>
        <p:spPr>
          <a:xfrm>
            <a:off x="539640" y="1484280"/>
            <a:ext cx="381636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9">
            <a:hlinkClick r:id="rId4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ИДЕОГРАФИЧЕСК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мен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к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ш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деографическ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(одним знаком обозначалось целое понятие). Предметы изображали знаками-символами. Рисунки служили средством напоминания, но не было письма в прямом смы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91" descr="260905042"/>
          <p:cNvPicPr/>
          <p:nvPr/>
        </p:nvPicPr>
        <p:blipFill>
          <a:blip r:embed="rId2"/>
          <a:stretch/>
        </p:blipFill>
        <p:spPr>
          <a:xfrm>
            <a:off x="2195640" y="3429000"/>
            <a:ext cx="4608360" cy="30970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92">
            <a:hlinkClick r:id="rId3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ЛОГОВ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921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ип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ось слоговое письмо (системный знак слог). Оно применялось наряду с китайскими иероглифами. Слоговое письмо было громоздким, так как в нем смешивались словесные и слоговые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265474791"/>
          <p:cNvPicPr/>
          <p:nvPr/>
        </p:nvPicPr>
        <p:blipFill>
          <a:blip r:embed="rId2"/>
          <a:stretch/>
        </p:blipFill>
        <p:spPr>
          <a:xfrm>
            <a:off x="1116000" y="3500280"/>
            <a:ext cx="6985080" cy="31705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1">
            <a:hlinkClick r:id="rId3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БУКВЕННО-ЗВУКОВОЕ ПИСЬ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енно-слогов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нети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сьмо) относится ко второму тысячелетию до н. э. Это письмо отражает фонетический состав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42920" y="3573360"/>
            <a:ext cx="778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нетическое пись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ало основой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и многих народов.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3" name="Picture 11" descr="oh7b"/>
          <p:cNvPicPr/>
          <p:nvPr/>
        </p:nvPicPr>
        <p:blipFill>
          <a:blip r:embed="rId2"/>
          <a:stretch/>
        </p:blipFill>
        <p:spPr>
          <a:xfrm>
            <a:off x="179280" y="4941720"/>
            <a:ext cx="8785440" cy="1729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>
            <a:hlinkClick r:id="rId3" action="ppaction://hlinksldjump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10800" y="6048"/>
                </a:moveTo>
                <a:lnTo>
                  <a:pt x="13376" y="8659"/>
                </a:ln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lnTo>
                  <a:pt x="17763" y="13011"/>
                </a:lnTo>
                <a:lnTo>
                  <a:pt x="16109" y="13011"/>
                </a:lnTo>
                <a:lnTo>
                  <a:pt x="16109" y="20200"/>
                </a:lnTo>
                <a:lnTo>
                  <a:pt x="5491" y="20200"/>
                </a:lnTo>
                <a:lnTo>
                  <a:pt x="5491" y="13011"/>
                </a:lnTo>
                <a:lnTo>
                  <a:pt x="3837" y="13011"/>
                </a:lnTo>
                <a:close/>
              </a:path>
              <a:path fill="darkenLess" w="21600" h="26022">
                <a:moveTo>
                  <a:pt x="13376" y="8659"/>
                </a:moveTo>
                <a:lnTo>
                  <a:pt x="13376" y="6919"/>
                </a:lnTo>
                <a:lnTo>
                  <a:pt x="15152" y="6919"/>
                </a:lnTo>
                <a:lnTo>
                  <a:pt x="15152" y="10435"/>
                </a:lnTo>
                <a:close/>
              </a:path>
              <a:path fill="darkenLess" w="21600" h="26022">
                <a:moveTo>
                  <a:pt x="9877" y="16510"/>
                </a:moveTo>
                <a:lnTo>
                  <a:pt x="11723" y="16510"/>
                </a:lnTo>
                <a:lnTo>
                  <a:pt x="11723" y="20200"/>
                </a:lnTo>
                <a:lnTo>
                  <a:pt x="16109" y="20200"/>
                </a:lnTo>
                <a:lnTo>
                  <a:pt x="16109" y="13011"/>
                </a:lnTo>
                <a:lnTo>
                  <a:pt x="5491" y="13011"/>
                </a:lnTo>
                <a:lnTo>
                  <a:pt x="5491" y="20200"/>
                </a:lnTo>
                <a:lnTo>
                  <a:pt x="9877" y="20200"/>
                </a:lnTo>
                <a:close/>
              </a:path>
            </a:pathLst>
          </a:custGeom>
          <a:solidFill>
            <a:srgbClr val="b1bfe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7:29:17Z</dcterms:created>
  <dc:creator>_</dc:creator>
  <dc:description/>
  <dc:language>en-US</dc:language>
  <cp:lastModifiedBy>Мама</cp:lastModifiedBy>
  <dcterms:modified xsi:type="dcterms:W3CDTF">2012-03-28T22:35:16Z</dcterms:modified>
  <cp:revision>63</cp:revision>
  <dc:subject/>
  <dc:title>ИСТОРИЯ ИСЬМЕННОСТИ</dc:title>
</cp:coreProperties>
</file>